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D4D-7D1F-49CC-A014-FA1ACFEC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3B6-7948-47B5-A0ED-470B872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3EF-28B2-4FFF-B0DB-C395415D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954-B3E2-4851-9175-C8FC0B00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FD2-419E-4EF6-ABDD-E5DDB16C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DC1-FD18-4A5B-91DF-A53DC0ED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27F-A74B-42F4-A4CF-210AC7E5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DF4-5395-4704-BC9A-53B49BAF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A94-24A7-4379-BC70-44E3573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A22-818E-411D-A913-90E5E71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859-2E6E-46D6-A26A-2517593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891-8F83-40DD-97DD-174CFFC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6FE-948A-43A0-A803-0CC2A581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11:58Z</dcterms:created>
  <dc:creator>Grupo Editorial</dc:creator>
  <dc:description/>
  <dc:language>en-US</dc:language>
  <cp:lastModifiedBy>Grupo Editorial</cp:lastModifiedBy>
  <dcterms:modified xsi:type="dcterms:W3CDTF">2001-09-28T08:15:58Z</dcterms:modified>
  <cp:revision>1</cp:revision>
  <dc:subject/>
  <dc:title>Sin título de diapositiva</dc:title>
</cp:coreProperties>
</file>